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54A7-E1A1-4E9F-814C-E143E96F4D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AC4D-F2F0-46F4-910D-678538EAF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12A9-72C1-4901-BA86-080B8EFB3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1DF-3771-47EB-B789-60FF58DB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ADE-6FEE-4F5D-8CA4-DC8E650F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0ED-04B3-4E07-95F6-F0E05AF0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C73-E217-4D11-9411-A1899FBD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A1DA-93F1-4CE5-92C5-0C7B6482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1D0C-5854-457D-9A45-9C9D2626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D3F7-CEEE-454F-BB53-71A208AF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A4DC-D5A8-469E-996F-B581726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BF06-5A5D-49D2-8A7B-1F019C51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20E8-1AF6-4E8A-BC41-1B4AC599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755C-03F1-4989-9523-4D5E34B2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BCA-3DE3-42D8-97BD-066993F1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A4FF-79D4-456E-B630-9EFC26B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89F2-7842-4614-AED8-CCDDD88E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B827-4107-4E31-9245-B7BE17AD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DFFB-983C-4BDC-9B11-DF30A27C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6C8E-56A8-480B-90B4-FFDF09B4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71D8-5FD1-41B8-BFC4-D14A710A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2D6B-AE41-44FE-86CB-A846428D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E5FAC-2C27-4FA0-A21B-7B5D6F87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0F2D-FC66-407F-84C8-0E4B227D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8FAF-7EC7-43BD-A2BE-B6324F18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5F9-CEE5-49F5-AEA7-02CBF199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AB1E-2B3C-4775-9C21-E07B2FC5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6A5A-DB4E-415F-9EBC-95887B9D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E822-17D9-4D53-9534-6A5D5F1A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C3DE6-3746-4C23-B04A-5875379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E8D8-0AE8-4492-9D29-6482E111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DDB46-DAAF-4DAB-AD6C-CBFF8702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6C2C-CE7D-486E-818B-EA79BBE2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D8BD-8831-4FDE-8B67-C53FED46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E9D65-850A-46F0-8BF2-8553C4C7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BDE9-C84F-48F5-A3A2-15432DD6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7DB-787C-4297-8DF0-37F87E47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B592-2E88-4D6E-8089-C5D22B79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7B83-BAC1-4CE8-B682-F290A34A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87C1-7514-41D7-AC92-76DD3796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9501-0F34-457F-A9A8-C1586DF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9F169-1365-446C-85B0-DDC33CA5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6238-8637-4143-9698-8EC7349D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8985F-76B7-487A-9CFA-D3145FBF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2AC93-4BC8-485B-AAB5-C657A167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0159-9E8E-459A-B2B0-6B890F23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7E4-2C2A-43A4-953D-20F02AC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40B-8E2F-49CF-A0D5-31DDFD0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369-4705-4A79-92B9-A64E306F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D82-DE28-4D31-9BF5-011207E5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605-1FD8-4052-96DE-12307486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0160-8FAA-4C56-9D4D-11B5DC58A9C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62CC-07BB-449B-B0EF-AC1FDAD8F6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EB7D-ACA9-4A94-A3A9-CDA0F40A426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03FE-F94B-4950-87A6-25185B5E7DF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EF75-78AE-494B-9BCF-923899DEC42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F848-152C-47BF-9CBC-A8577A50994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2F78-F0FF-40AE-AC1C-2080B7C70AF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A3A0-2343-4542-BE4C-41CCCDA3FF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skinterns.wikispaces.com/Useful+documents" TargetMode="External"/><Relationship Id="rId3" Type="http://schemas.openxmlformats.org/officeDocument/2006/relationships/hyperlink" Target="http://saskinterns.wikispaces.com/Useful+documents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skinterns.wikispaces.com/Useful+documents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281160" y="781200"/>
            <a:ext cx="8435880" cy="1577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gust, 20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he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source of evidence of what you are doing. Crucial for midterm and final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finished if you have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 journal dated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PGP goal per l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28880" y="2282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4475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and 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 your cooperating teacher(s) so we can ALL read and add to your PGP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ile, Wikispaces, Google.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Arial"/>
              </a:rPr>
              <a:t>saskinterns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Stewart Resource Cent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nations information and ideas from Irene, OTC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and 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s/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y stu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handle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engage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this skill will tak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gle yourself because the parents wi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pbertips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lcome / Introduction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nship Overview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ectations, roles and responsibil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pervision/ Docu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GP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ources - Cohort wiki: </a:t>
            </a:r>
            <a:r>
              <a:rPr b="0" lang="en-US" sz="1500" spc="-1" strike="noStrike">
                <a:solidFill>
                  <a:srgbClr val="03495c"/>
                </a:solidFill>
                <a:latin typeface="Arial"/>
              </a:rPr>
              <a:t>http://saskinterns.wikispaces.com/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MP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nagement (Responsible Learners!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t and Lesson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“Big” 4: Adaptation / Differentiation / Assessment / Inquiry-based educ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rap up / Homewo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of professiona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is named in the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Lesson Plan templ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Unit Plan templ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74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5"/>
          <p:cNvGrpSpPr/>
          <p:nvPr/>
        </p:nvGrpSpPr>
        <p:grpSpPr>
          <a:xfrm>
            <a:off x="1643040" y="4357800"/>
            <a:ext cx="2928960" cy="1928880"/>
            <a:chOff x="1643040" y="4357800"/>
            <a:chExt cx="2928960" cy="1928880"/>
          </a:xfrm>
        </p:grpSpPr>
        <p:sp>
          <p:nvSpPr>
            <p:cNvPr id="277" name="Oval 16"/>
            <p:cNvSpPr/>
            <p:nvPr/>
          </p:nvSpPr>
          <p:spPr>
            <a:xfrm>
              <a:off x="1643040" y="43578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7"/>
            <p:cNvSpPr/>
            <p:nvPr/>
          </p:nvSpPr>
          <p:spPr>
            <a:xfrm>
              <a:off x="342900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80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mportant part of te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hows that it is what you will struggle with the m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planning/Specific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end up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“Big 4”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checklist on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Arial"/>
                <a:ea typeface="ＭＳ Ｐゴシック"/>
                <a:hlinkClick r:id="rId2"/>
              </a:rPr>
              <a:t>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hip will be the most difficult task you have ever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job interview. 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work: “Big Ideas”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357200" y="3000240"/>
            <a:ext cx="507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”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 Goal T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 should be prepared to teach their cooperating teacher about the PGP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09" name="Right Arrow 3"/>
          <p:cNvGrpSpPr/>
          <p:nvPr/>
        </p:nvGrpSpPr>
        <p:grpSpPr>
          <a:xfrm>
            <a:off x="3962520" y="4681440"/>
            <a:ext cx="1139760" cy="615960"/>
            <a:chOff x="3962520" y="4681440"/>
            <a:chExt cx="1139760" cy="615960"/>
          </a:xfrm>
        </p:grpSpPr>
        <p:pic>
          <p:nvPicPr>
            <p:cNvPr id="210" name="Right Arrow 3" descr=""/>
            <p:cNvPicPr/>
            <p:nvPr/>
          </p:nvPicPr>
          <p:blipFill>
            <a:blip r:embed="rId2"/>
            <a:stretch/>
          </p:blipFill>
          <p:spPr>
            <a:xfrm>
              <a:off x="3962520" y="468144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1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7 or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Right Arrow 10"/>
          <p:cNvGrpSpPr/>
          <p:nvPr/>
        </p:nvGrpSpPr>
        <p:grpSpPr>
          <a:xfrm>
            <a:off x="5950080" y="2090880"/>
            <a:ext cx="1133280" cy="615960"/>
            <a:chOff x="5950080" y="2090880"/>
            <a:chExt cx="1133280" cy="615960"/>
          </a:xfrm>
        </p:grpSpPr>
        <p:pic>
          <p:nvPicPr>
            <p:cNvPr id="217" name="Right Arrow 10" descr=""/>
            <p:cNvPicPr/>
            <p:nvPr/>
          </p:nvPicPr>
          <p:blipFill>
            <a:blip r:embed="rId3"/>
            <a:stretch/>
          </p:blipFill>
          <p:spPr>
            <a:xfrm>
              <a:off x="5950080" y="2090880"/>
              <a:ext cx="1133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Right Arrow 11"/>
          <p:cNvGrpSpPr/>
          <p:nvPr/>
        </p:nvGrpSpPr>
        <p:grpSpPr>
          <a:xfrm>
            <a:off x="2597040" y="2090880"/>
            <a:ext cx="1133640" cy="615960"/>
            <a:chOff x="2597040" y="2090880"/>
            <a:chExt cx="1133640" cy="615960"/>
          </a:xfrm>
        </p:grpSpPr>
        <p:pic>
          <p:nvPicPr>
            <p:cNvPr id="220" name="Right Arrow 11" descr=""/>
            <p:cNvPicPr/>
            <p:nvPr/>
          </p:nvPicPr>
          <p:blipFill>
            <a:blip r:embed="rId4"/>
            <a:stretch/>
          </p:blipFill>
          <p:spPr>
            <a:xfrm>
              <a:off x="2597040" y="2090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ight Arrow 12"/>
          <p:cNvGrpSpPr/>
          <p:nvPr/>
        </p:nvGrpSpPr>
        <p:grpSpPr>
          <a:xfrm>
            <a:off x="7394400" y="3998880"/>
            <a:ext cx="1133640" cy="615960"/>
            <a:chOff x="7394400" y="3998880"/>
            <a:chExt cx="1133640" cy="615960"/>
          </a:xfrm>
        </p:grpSpPr>
        <p:pic>
          <p:nvPicPr>
            <p:cNvPr id="223" name="Right Arrow 12" descr=""/>
            <p:cNvPicPr/>
            <p:nvPr/>
          </p:nvPicPr>
          <p:blipFill>
            <a:blip r:embed="rId5"/>
            <a:stretch/>
          </p:blipFill>
          <p:spPr>
            <a:xfrm>
              <a:off x="7394400" y="3998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2666880" y="46483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of final evaluation to me by December 2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20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Arrow 17"/>
          <p:cNvGrpSpPr/>
          <p:nvPr/>
        </p:nvGrpSpPr>
        <p:grpSpPr>
          <a:xfrm>
            <a:off x="1450800" y="4913280"/>
            <a:ext cx="1133640" cy="615960"/>
            <a:chOff x="1450800" y="4913280"/>
            <a:chExt cx="1133640" cy="615960"/>
          </a:xfrm>
        </p:grpSpPr>
        <p:pic>
          <p:nvPicPr>
            <p:cNvPr id="230" name="Right Arrow 17" descr=""/>
            <p:cNvPicPr/>
            <p:nvPr/>
          </p:nvPicPr>
          <p:blipFill>
            <a:blip r:embed="rId6"/>
            <a:stretch/>
          </p:blipFill>
          <p:spPr>
            <a:xfrm>
              <a:off x="1450800" y="49132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eedback ca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useful part of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question you still ha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September 7 or 16, 9:00am -  3:00 p.m. – Room 2001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Arial"/>
              </a:rPr>
              <a:t> October 14, 9:00 a.m. – 3:00 p.m. –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oom 2001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ervice # 3 (half day):  the TC and Co-op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dance – arrive early and leave l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ort absences to the college supervi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l Lesson Plans (2 formal plans each day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Unit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3 – 5 lessons for part-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10 – 15 lessons for full 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usion of Aboriginal Content, Knowledge and Ways of Knowing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r documentation in the PGP T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r communication (including the PGP Tables) with cooperating teacher and college superviso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Intern roles and responsibilit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2133360"/>
            <a:ext cx="6858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planning and co-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two units --Co-generated Unit and Independently written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lesson plans and other uni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pre- and post- conferences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nvolvement in School and Communit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visits /extra curr if I can sw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n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an evaluation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onnect my observations to the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01:02Z</dcterms:created>
  <dc:creator>user</dc:creator>
  <dc:description/>
  <dc:language>en-US</dc:language>
  <cp:lastModifiedBy>Jay Wilson</cp:lastModifiedBy>
  <dcterms:modified xsi:type="dcterms:W3CDTF">2011-08-19T14:40:02Z</dcterms:modified>
  <cp:revision>60</cp:revision>
  <dc:subject/>
  <dc:title>Internship Orientation Seminar</dc:title>
</cp:coreProperties>
</file>